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498-7E69-4F12-89E5-C561A71E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34E-B1E7-403E-8182-F262926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6BA-9AB5-428D-BB16-CD691BC0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A46-FD65-4230-B3B8-89848960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661A-7D95-450E-8C55-7E7F9168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023-CF6F-47C1-9093-3FBA591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C54-4D51-47DB-B8A4-74F6D8F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01C-2F6F-40F8-83E7-3157135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741-54DA-4C17-8D03-64FFAAC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8AA-B363-4EEC-B10D-AF2DE3C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8166-C3F0-4F43-A154-70E4674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260-FEFE-4C51-BECE-C4448A51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B14-4116-46DD-A2F3-8643ADA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2E4-4B66-4796-9650-5C7CCF5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A95-F78D-4743-90A0-FF74F096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22D-92E9-418F-8030-1D651FE7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D107-D2A0-4045-A219-F18A212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436-3A4E-40C6-AD6D-E3D61FA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658-0951-4373-BFA1-97AC5908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4BB-201F-452F-A4B0-4C2F4673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05E-A605-46F2-BAF3-5A2D03C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E11-88C7-45AF-BE7B-FF159B7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6E6-EC73-4CED-95B3-35ECF6D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DA7-FCD9-4268-82B4-3C426EB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39D-5575-44A4-B0F6-5FD34FDDD8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30B-876A-4058-957E-57CF63FA2D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volved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81080"/>
            <a:ext cx="369756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to be centered around a particular 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rot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s: st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 Break: re.v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 rev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0960" y="4113360"/>
            <a:ext cx="2562120" cy="198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978080" y="2255400"/>
            <a:ext cx="349236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00680" y="1981080"/>
            <a:ext cx="19209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dedi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making holy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: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onyms: give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llable Break: re.ded.i.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dedic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ection: 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50120" y="1981080"/>
            <a:ext cx="17938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sundersta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09160" y="2331720"/>
            <a:ext cx="3891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A failure to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conf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underst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Break: mis.un.der.stand.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057400" cy="2022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331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appointed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feeling like thing did not go the way you had h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sad or up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s: hap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dis.ap.point.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appo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92840" y="2027160"/>
            <a:ext cx="173844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113360"/>
            <a:ext cx="148248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roublesom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causing trou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o b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Break: troub.le.s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700680" y="1981080"/>
          <a:ext cx="123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0680" y="1981080"/>
                    <a:ext cx="123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16200" cy="183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34320" y="4038480"/>
            <a:ext cx="18302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1-16T17:57:02Z</dcterms:modified>
  <cp:revision>6</cp:revision>
  <dc:subject/>
  <dc:title>PowerPoint Presentation</dc:title>
</cp:coreProperties>
</file>